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D88-DB22-4C5A-AD33-0C4CEB9D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073-0460-4115-8CCC-8174AD71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EEA-595F-41A0-BAD4-3F340732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C11-A1E7-45FF-AFEF-28489466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AA6-6380-4355-B1A1-A5D66962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6DC-1C5A-4055-9F2D-5CB9D5BA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BFF-BBAB-4A1A-BF4A-C249876A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32C-4156-410D-87A8-3D757D46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30D-AA0C-46FC-884A-F931EF09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5A7-C085-4BC8-9C5B-A1CBA745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E47-F4B7-46E3-9041-3F4B6295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236-A7A5-4A1F-856B-5E794065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508A-0B10-47D7-9421-213D74485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tation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j0309932"/>
          <p:cNvPicPr/>
          <p:nvPr/>
        </p:nvPicPr>
        <p:blipFill>
          <a:blip r:embed="rId1"/>
          <a:stretch/>
        </p:blipFill>
        <p:spPr>
          <a:xfrm>
            <a:off x="3429000" y="2971800"/>
            <a:ext cx="26035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do one s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pinning on an axis (like a t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clockwise when viewed from the North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4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3 hours, 56 min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eco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j0174012"/>
          <p:cNvPicPr/>
          <p:nvPr/>
        </p:nvPicPr>
        <p:blipFill>
          <a:blip r:embed="rId1"/>
          <a:stretch/>
        </p:blipFill>
        <p:spPr>
          <a:xfrm>
            <a:off x="1066680" y="4648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6"/>
          <p:cNvSpPr/>
          <p:nvPr/>
        </p:nvSpPr>
        <p:spPr>
          <a:xfrm>
            <a:off x="0" y="1295280"/>
            <a:ext cx="9144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8"/>
          <p:cNvSpPr/>
          <p:nvPr/>
        </p:nvSpPr>
        <p:spPr>
          <a:xfrm flipH="1">
            <a:off x="4265280" y="1297080"/>
            <a:ext cx="3240" cy="55623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of the Earth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because the Earth sp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et day and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temperatur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risingSetting"/>
          <p:cNvPicPr/>
          <p:nvPr/>
        </p:nvPicPr>
        <p:blipFill>
          <a:blip r:embed="rId1"/>
          <a:stretch/>
        </p:blipFill>
        <p:spPr>
          <a:xfrm>
            <a:off x="0" y="35812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6"/>
          <p:cNvSpPr/>
          <p:nvPr/>
        </p:nvSpPr>
        <p:spPr>
          <a:xfrm>
            <a:off x="0" y="1371600"/>
            <a:ext cx="9144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8"/>
          <p:cNvSpPr/>
          <p:nvPr/>
        </p:nvSpPr>
        <p:spPr>
          <a:xfrm flipH="1">
            <a:off x="4341960" y="1373040"/>
            <a:ext cx="2880" cy="5486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iagram shows a planet rot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ResponseCounter"/>
          <p:cNvGrpSpPr/>
          <p:nvPr/>
        </p:nvGrpSpPr>
        <p:grpSpPr>
          <a:xfrm>
            <a:off x="304920" y="3200400"/>
            <a:ext cx="1143000" cy="2374920"/>
            <a:chOff x="304920" y="3200400"/>
            <a:chExt cx="1143000" cy="2374920"/>
          </a:xfrm>
        </p:grpSpPr>
        <p:sp>
          <p:nvSpPr>
            <p:cNvPr id="58" name="RCPole"/>
            <p:cNvSpPr/>
            <p:nvPr/>
          </p:nvSpPr>
          <p:spPr>
            <a:xfrm>
              <a:off x="449280" y="3295440"/>
              <a:ext cx="0" cy="2224440"/>
            </a:xfrm>
            <a:prstGeom prst="line">
              <a:avLst/>
            </a:prstGeom>
            <a:ln w="63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CFlag"/>
            <p:cNvSpPr/>
            <p:nvPr/>
          </p:nvSpPr>
          <p:spPr>
            <a:xfrm>
              <a:off x="487440" y="5213520"/>
              <a:ext cx="960480" cy="33336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83160 h 333360"/>
                <a:gd name="textAreaBottom" fmla="*/ 25020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CTop"/>
            <p:cNvSpPr/>
            <p:nvPr/>
          </p:nvSpPr>
          <p:spPr>
            <a:xfrm>
              <a:off x="304920" y="3200400"/>
              <a:ext cx="288720" cy="1108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CBottom"/>
            <p:cNvSpPr/>
            <p:nvPr/>
          </p:nvSpPr>
          <p:spPr>
            <a:xfrm>
              <a:off x="304920" y="5519880"/>
              <a:ext cx="307800" cy="5544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228600" y="6308640"/>
          <a:ext cx="8312040" cy="549360"/>
        </p:xfrm>
        <a:graphic>
          <a:graphicData uri="http://schemas.openxmlformats.org/drawingml/2006/table">
            <a:tbl>
              <a:tblPr/>
              <a:tblGrid>
                <a:gridCol w="415800"/>
                <a:gridCol w="416160"/>
                <a:gridCol w="414360"/>
                <a:gridCol w="415800"/>
                <a:gridCol w="415800"/>
                <a:gridCol w="416160"/>
                <a:gridCol w="415800"/>
                <a:gridCol w="415800"/>
                <a:gridCol w="414360"/>
                <a:gridCol w="416160"/>
                <a:gridCol w="415800"/>
                <a:gridCol w="415800"/>
                <a:gridCol w="416160"/>
                <a:gridCol w="414360"/>
                <a:gridCol w="415800"/>
                <a:gridCol w="415800"/>
                <a:gridCol w="416160"/>
                <a:gridCol w="415800"/>
                <a:gridCol w="415800"/>
                <a:gridCol w="414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10" descr="earth rotation.jpg"/>
          <p:cNvPicPr/>
          <p:nvPr/>
        </p:nvPicPr>
        <p:blipFill>
          <a:blip r:embed="rId1"/>
          <a:stretch/>
        </p:blipFill>
        <p:spPr>
          <a:xfrm>
            <a:off x="5867280" y="1143000"/>
            <a:ext cx="1916280" cy="268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earth_revolution.gif"/>
          <p:cNvPicPr/>
          <p:nvPr/>
        </p:nvPicPr>
        <p:blipFill>
          <a:blip r:embed="rId2"/>
          <a:stretch/>
        </p:blipFill>
        <p:spPr>
          <a:xfrm>
            <a:off x="3276720" y="4089240"/>
            <a:ext cx="52480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ause the Earth rotates we ge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648320" y="1371600"/>
          <a:ext cx="396216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71600"/>
                    <a:ext cx="396216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15800" y="6070680"/>
          <a:ext cx="8312400" cy="549360"/>
        </p:xfrm>
        <a:graphic>
          <a:graphicData uri="http://schemas.openxmlformats.org/drawingml/2006/table">
            <a:tbl>
              <a:tblPr/>
              <a:tblGrid>
                <a:gridCol w="416160"/>
                <a:gridCol w="415800"/>
                <a:gridCol w="414360"/>
                <a:gridCol w="415800"/>
                <a:gridCol w="416160"/>
                <a:gridCol w="415800"/>
                <a:gridCol w="415800"/>
                <a:gridCol w="416160"/>
                <a:gridCol w="414360"/>
                <a:gridCol w="415800"/>
                <a:gridCol w="415800"/>
                <a:gridCol w="416160"/>
                <a:gridCol w="415800"/>
                <a:gridCol w="414360"/>
                <a:gridCol w="415800"/>
                <a:gridCol w="416160"/>
                <a:gridCol w="415800"/>
                <a:gridCol w="415800"/>
                <a:gridCol w="416160"/>
                <a:gridCol w="414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and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28600" y="3808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8:14:54Z</dcterms:created>
  <dc:creator>Jean Kavanagh</dc:creator>
  <dc:description/>
  <dc:language>en-US</dc:language>
  <cp:lastModifiedBy>Jean Kavanagh</cp:lastModifiedBy>
  <dcterms:modified xsi:type="dcterms:W3CDTF">2010-02-18T17:57:43Z</dcterms:modified>
  <cp:revision>12</cp:revision>
  <dc:subject/>
  <dc:title>The Earth in Motion</dc:title>
</cp:coreProperties>
</file>